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DC6-4085-41ED-9FA2-B60D2F7D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2EA-EA5E-46CB-819C-4E46CDE8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3E8-A85C-4C10-B7B1-C390D742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7F0-AAAA-4355-86AC-9B3E8BD7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888-D62D-4B2A-80CD-44DA4524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396-4146-41E1-A084-328A47D6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DF2-FD2C-4666-AF68-86946797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D07-D148-42D0-99C0-1A526837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06F-225F-4750-847B-8E5ABD2D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210-ADBC-4E19-989B-AC13688E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519-CA6B-4AF0-B4FC-5AAC059A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79E-12ED-41F2-B4D3-5516656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D5F0-94C7-433D-998E-7AE71AD152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748720" y="508464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2"/>
          <p:cNvSpPr/>
          <p:nvPr/>
        </p:nvSpPr>
        <p:spPr>
          <a:xfrm>
            <a:off x="762120" y="380880"/>
            <a:ext cx="67053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5 :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Tur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762120" y="1752480"/>
            <a:ext cx="77724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turning forces are called ‘moments’, and are measured in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predict if a see-saw will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find the centre of mass of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predict the stability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3-26T19:20:36Z</dcterms:modified>
  <cp:revision>19</cp:revision>
  <dc:subject>Physics for You Support File</dc:subject>
  <dc:title>Physics for You</dc:title>
</cp:coreProperties>
</file>