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A30-120F-4946-B43A-E23F5979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D123-132C-42D2-965C-9FBF2A55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2AF-FC06-4898-A08A-89ADE9C5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078-1515-4A3D-9816-3ECC587D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DB0-4B65-4608-8255-98B28344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CDBD-A8E8-416F-82D8-F9A98BEB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664-C513-4DF5-9DB2-665AD959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04E6-1A2B-482D-8A0C-D0F28244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BDA-E1E1-44BC-86A3-DCC4192A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BDA-F7A3-4E61-99EE-57BA9ABC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0BEE-3C32-4340-9B25-688FA0C3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532-0169-4991-8C86-FBF641B2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D537-B24B-4DE7-80AF-5F8849788D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748720" y="501336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762120" y="1371600"/>
            <a:ext cx="792468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file contains the Plenary for this chapter in </a:t>
            </a:r>
            <a:br>
              <a:rPr sz="2000"/>
            </a:b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Physics For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the PowerPoint of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how well they have understood each section of wor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2120" y="5715000"/>
            <a:ext cx="62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15 – Turning Fo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5 : Turning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62120" y="1268280"/>
            <a:ext cx="734364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work out the turning effect (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a force using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units ar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small force can produce a large turning effect if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lever is l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a see-saw to balance,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moment must equal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clockwise moment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doe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an that the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st be the same on each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762120" y="1268280"/>
            <a:ext cx="734364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work out the turning effect (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a force using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units ar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small force can produce a large turning effect if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lever is l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a see-saw to balance,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moment must equal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clockwise moment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doe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an that the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st be the same on each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5 : Turning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059280" y="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211800" y="1268280"/>
            <a:ext cx="1408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619440" y="1676520"/>
            <a:ext cx="107964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987800" y="1676520"/>
            <a:ext cx="237672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ength of l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271680" y="2152800"/>
            <a:ext cx="366264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ewton metres   (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971800" y="3352680"/>
            <a:ext cx="129528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5564160" y="4181400"/>
            <a:ext cx="172728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4788000" y="4605480"/>
            <a:ext cx="718920" cy="3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46800" anchor="t">
            <a:spAutoFit/>
          </a:bodyPr>
          <a:p>
            <a:pPr algn="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357880" y="5286240"/>
            <a:ext cx="121428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 Johnson</cp:lastModifiedBy>
  <dcterms:modified xsi:type="dcterms:W3CDTF">2017-03-26T19:21:07Z</dcterms:modified>
  <cp:revision>33</cp:revision>
  <dc:subject>Physics for You Support File</dc:subject>
  <dc:title>Physics for You</dc:title>
</cp:coreProperties>
</file>